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663-53FE-4769-AF7A-A833A72A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C7A-5819-435E-BF07-80386E79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3A8-A37B-4DE1-A22F-29A8EE19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7DB-6071-49A5-AB35-555FB935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221-8D16-478A-B66A-0782CB7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3CE-3707-48AF-9068-2C7840D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9C2-4EC0-4E56-B93B-5E019A7C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DB1-E1AB-448C-9376-E9EA522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E53-2130-4319-92FA-CFB80046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415-E5F9-4009-8289-9533039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F51-BAF6-4336-81C3-FFB2AC6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507-2CFD-4D4C-951C-3513FB8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9BE-FF5A-4FCB-8E4E-D3E85E16B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November 24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Give back/Go over tes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8-11-24T15:29:52Z</dcterms:modified>
  <cp:revision>19</cp:revision>
  <dc:subject/>
  <dc:title>Lesson 5.2 part one</dc:title>
</cp:coreProperties>
</file>